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D2F-6EE4-481D-8CFB-653D20A7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C42-26F9-4C3D-A660-B3C5D18D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730-A398-48A6-B0FA-B34EADF0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EFA-5BC9-4324-A0EB-2186460E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D22-F613-4249-8F2E-64FFF0C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EC8-7352-4509-B133-A2B2353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0E7-9207-47F7-B516-5631420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496-71CE-4224-A61D-81BFE663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1B0-0BB4-4656-9F28-639BFC1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069-0D78-49B5-9544-CD78528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1FB-0263-4257-B211-30759CD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C8A-1BC3-48BC-85C6-C10E9CC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E915-ACFB-481A-A214-9ABA25A99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6200000">
            <a:off x="-914040" y="91440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36406"/>
                </a:solidFill>
                <a:latin typeface="Calibri"/>
              </a:rPr>
              <a:t>HTM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120" y="14475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H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yper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T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ext 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M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arkup 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L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8600" y="2971800"/>
            <a:ext cx="8686800" cy="1068840"/>
          </a:xfrm>
          <a:prstGeom prst="rect">
            <a:avLst/>
          </a:prstGeom>
          <a:noFill/>
          <a:ln w="28440">
            <a:solidFill>
              <a:srgbClr val="852f7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Definition - A structured text-based language for creating Web pages on the Inter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114800" y="152280"/>
            <a:ext cx="5029200" cy="1313640"/>
          </a:xfrm>
          <a:prstGeom prst="rect">
            <a:avLst/>
          </a:prstGeom>
          <a:noFill/>
          <a:ln cap="rnd" w="34920">
            <a:solidFill>
              <a:srgbClr val="b83d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3d68"/>
                </a:solidFill>
                <a:latin typeface="Calibri"/>
              </a:rPr>
              <a:t>HTML code can be written and edited in the Notepad appl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3d68"/>
                </a:solidFill>
                <a:latin typeface="Calibri"/>
              </a:rPr>
              <a:t>However, you DO NOT need to know HTML coding to create a Web pag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2868480" cy="254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519300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57200" y="45720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c6d5"/>
                </a:solidFill>
                <a:latin typeface="Calibri"/>
              </a:rPr>
              <a:t>Each opening tag &lt;&gt; has a corresponding closing &lt;/&gt; tag with one exception. Look at the code </a:t>
            </a:r>
            <a:r>
              <a:rPr b="0" lang="en-US" sz="1800" spc="-1" strike="noStrike">
                <a:solidFill>
                  <a:srgbClr val="e5c6d5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c6d5"/>
                </a:solidFill>
                <a:latin typeface="Calibri"/>
              </a:rPr>
              <a:t>Which one does NOT have a closing ta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8" descr=""/>
          <p:cNvPicPr/>
          <p:nvPr/>
        </p:nvPicPr>
        <p:blipFill>
          <a:blip r:embed="rId3"/>
          <a:stretch/>
        </p:blipFill>
        <p:spPr>
          <a:xfrm>
            <a:off x="-128520" y="4479840"/>
            <a:ext cx="40608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9:38:37Z</dcterms:created>
  <dc:creator>RRISD</dc:creator>
  <dc:description/>
  <dc:language>en-US</dc:language>
  <cp:lastModifiedBy>RRISD</cp:lastModifiedBy>
  <dcterms:modified xsi:type="dcterms:W3CDTF">2009-03-13T21:32:25Z</dcterms:modified>
  <cp:revision>6</cp:revision>
  <dc:subject/>
  <dc:title>HTML</dc:title>
</cp:coreProperties>
</file>